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34BF-6B82-4F1F-BA55-8A0EB055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2338-84EB-4430-AC02-F771B0A9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5807-710C-455E-8684-348CDE1C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3C38-1B94-4F04-8525-D6E46DDE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C0CA-9802-44D2-B0CE-9E6E0B9F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29A4-B1E0-46FD-AA3B-C8E1AF93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99B9-97FE-41B8-AADF-8AF32E3D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6B50-D95B-4B23-9D8B-2150031B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AFE6-702F-4AF8-9133-DFB7C9DB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9D46-98B9-49D3-ACAA-B63554E3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481D-C1BF-40F6-A8F1-0B01C6FA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CD7B-EECD-4FC4-8157-F8264F8E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ABE9-F880-4947-AADF-F107EF12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0D0A-93A2-4792-B235-52F599ED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5A42-040A-4974-B093-FB3FDF67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B162-C72B-47A1-B648-04C22F97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233D-C394-4AFD-BC0F-1E8127F3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6691-54FC-444A-9A14-192A2924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D4FC-E235-49DD-ADF6-ECC269C0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EEBA-61B6-4DD0-8A30-CE587E92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149E-D782-4450-8BA8-F616CF51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8B05-8CFE-486C-BED6-A66D63CE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04AA-B756-412B-BCD6-F8A3A53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D97C-2553-44C2-A4A6-DE2B1BEC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9B02-455B-48A7-922E-FA622B27C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445A-7B1A-4252-BB54-3A94E4BB2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300/16386/bean_16386_lg.gif&amp;imgrefurl=http://etc.usf.edu/clipart/16300/16386/bean_16386.htm&amp;usg=__307x0lpDU2IGLLlYiBfoMhq1OSg=&amp;h=700&amp;w=631&amp;sz=87&amp;hl=en&amp;start=4&amp;itbs=1&amp;tbnid=4tGOI5GJWqOm2M:&amp;tbnh=140&amp;tbnw=126&amp;prev=/images%3Fq%3Dbean%2Bplant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tomcassidy.com/cocacola_logo.gif&amp;imgrefurl=http://tomcassidy.com/cocacola_collector.html&amp;usg=__qS3_a1xupYraVJROH-wbdQnGA5g=&amp;h=320&amp;w=320&amp;sz=27&amp;hl=en&amp;start=7&amp;itbs=1&amp;tbnid=n2sTnVC1SaWU5M:&amp;tbnh=118&amp;tbnw=118&amp;prev=/images%3Fq%3Dcoca%2Bcola%26hl%3Den%26safe%3Dactive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/imgres?imgurl=http://f00.inventorspot.com/images/DR_pepper_logo.jpg&amp;imgrefurl=http://inventorspot.com/articles/top_five_2010_super_bowl_xliv_commercials_sneak_previews_37433&amp;usg=__tZ1sTzFAUBlnPIi2OiB85S5j2bo=&amp;h=200&amp;w=200&amp;sz=10&amp;hl=en&amp;start=10&amp;itbs=1&amp;tbnid=y0UXa0HTJje6yM:&amp;tbnh=104&amp;tbnw=104&amp;prev=/images%3Fq%3Ddr.%2Bpepper%2Blogo%26hl%3Den%26safe%3Dactive%26gbv%3D2%26tbs%3Disch: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akvisit.com/jobs/coca-cola.jpg&amp;imgrefurl=http://www.pakvisit.com/jobs/jobs_%20in_Bahria-Town_%20Pakistan_lahore_karachi_Islamabad_Sialkot_Faisalabad.html&amp;usg=__Ihh1JvRbAdHawm9Db1dxyFh7QM4=&amp;h=320&amp;w=430&amp;sz=36&amp;hl=en&amp;start=6&amp;itbs=1&amp;tbnid=lkLvHtFyvJEVvM:&amp;tbnh=94&amp;tbnw=126&amp;prev=/images%3Fq%3Dcoca%2Bcola%26hl%3Den%26safe%3Dactive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6400"/>
            <a:ext cx="60199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oda-synthesi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: Cole R. Slupsk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95288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533412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28800" y="5257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a garden? Do you hate it when your garden doesn’t grow fast enough? I might have the answer to all of your problems. So, does Dr. Pepper and Coca Cola affect the growth of pl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the Dr. Pepper will make the okra grow faster. I think the Coca Cola will be too acidic. The water plant will grow at a steady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ra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a 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Pe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c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2438280"/>
            <a:ext cx="1200240" cy="895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48000" y="2809800"/>
            <a:ext cx="64800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all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ok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with water until 1”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one plant with water, one with Dr. Pepper, and one with Coca C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eginning, the Coca Cola Plant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while, the Dr. Pepper plant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plant WON!!!!!!!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Hypothesis was w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876920" y="1752480"/>
          <a:ext cx="396216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39621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ather was rough throughout the time period of waiting for the plants to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nts all started at different heights. Clipping them would kill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1 week, the Coca Cola plant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rrible odor came from the Dr. Pepper Plant at 1 ½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the Dr. Pepper plant died after 2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plant never died and will now be placed in my ga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concluded that Dr. Pepper and Coca Cola will not help your plants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fashioned water works the best. You should not use foreign liquids on your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Riffel, for letting me make her room st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ather, for buying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Riffel’s love of soda to use it in a science fair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elf, for do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eers. They endured the horrible smell of one of the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30:20Z</dcterms:created>
  <dc:creator>STERLING  USD376</dc:creator>
  <dc:description/>
  <dc:language>en-US</dc:language>
  <cp:lastModifiedBy>STERLING  USD376</cp:lastModifiedBy>
  <dcterms:modified xsi:type="dcterms:W3CDTF">2010-04-30T14:12:01Z</dcterms:modified>
  <cp:revision>11</cp:revision>
  <dc:subject/>
  <dc:title>PowerPoint Presentation</dc:title>
</cp:coreProperties>
</file>